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1B78-7210-40ED-95BA-5801A7DA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81B3-95D3-4223-B1CD-CD6CE9E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460C-AEA4-4E47-AF5E-35350C5E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9F24E-65E5-4CF1-ACA4-0D06C03D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D2E-E47D-4448-8B73-BB43EF58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0764-59ED-45C4-A6CC-ED5999F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C456-F000-4730-ABE8-A8F33B6A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CD4D-334B-4B52-A53A-4060965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04EA-55E8-4B91-8B0C-3AC57C2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A7E-258C-4733-94EF-EE714C28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5F1B-721F-4079-AA13-F45D881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63AC-C07F-4BBB-8B1F-D72C3B3B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9F4D-C9FF-4808-A6E7-6F20750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247-B5D2-428C-9248-F068F74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3ECC-8FAE-4C64-B486-E637278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569-31FD-4EC1-B7BD-5B542418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25CF-CA5E-4495-830F-F5CD381D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A262-9868-4A33-8035-A895735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A68B-92BB-436A-A851-6641546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40A0-F3F1-4CA0-B589-856A396C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984D-9BA8-4F9B-9E88-449FFAD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719F-B935-4611-8FA1-76CFC8B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E525-364A-4D4B-B858-ABB1630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9677-F412-41BF-AE9E-522C0EF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3CE-0E4A-46F3-8405-344EA7715A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CEE2-7973-4255-9EB9-76CBDA9370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28191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391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2362320"/>
            <a:ext cx="6553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ff33"/>
                </a:solidFill>
                <a:latin typeface="Rockwell"/>
              </a:rPr>
              <a:t> </a:t>
            </a:r>
            <a:r>
              <a:rPr b="1" lang="en-US" sz="6600" spc="-1" strike="noStrike">
                <a:solidFill>
                  <a:srgbClr val="98f917"/>
                </a:solidFill>
                <a:latin typeface="Rockwell"/>
              </a:rPr>
              <a:t>Las Comid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f917"/>
                </a:solidFill>
                <a:latin typeface="Rockwell"/>
              </a:rPr>
              <a:t>A Spanish PowerPoint by: Caitlin</a:t>
            </a:r>
            <a:r>
              <a:rPr b="1" lang="en-US" sz="2800" spc="-1" strike="noStrike">
                <a:solidFill>
                  <a:srgbClr val="99ff6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98f917"/>
                </a:solidFill>
                <a:latin typeface="Rockwell"/>
              </a:rPr>
              <a:t>Keave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Forte"/>
              </a:rPr>
              <a:t>desayun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187956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10280" y="1905120"/>
            <a:ext cx="1981440" cy="147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743200" y="1905120"/>
            <a:ext cx="2057400" cy="136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2819520" y="4114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4724280" y="4075200"/>
            <a:ext cx="1676520" cy="1582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6781680" y="4038480"/>
            <a:ext cx="205740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2005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76520" y="1676520"/>
            <a:ext cx="1685880" cy="1519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676160" cy="1494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6400800" y="2362320"/>
            <a:ext cx="1397160" cy="194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600200" cy="143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1524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965160" cy="300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895480" y="3048120"/>
            <a:ext cx="2562480" cy="178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2685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067120" cy="221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895480" y="1600200"/>
            <a:ext cx="2467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886040" cy="241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90920" y="403848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2:38:12Z</dcterms:created>
  <dc:creator>keavenycai</dc:creator>
  <dc:description/>
  <dc:language>en-US</dc:language>
  <cp:lastModifiedBy>keavenycai</cp:lastModifiedBy>
  <dcterms:modified xsi:type="dcterms:W3CDTF">2012-04-03T16:04:13Z</dcterms:modified>
  <cp:revision>6</cp:revision>
  <dc:subject/>
  <dc:title>Slide 1</dc:title>
</cp:coreProperties>
</file>